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5480" y="708120"/>
            <a:ext cx="471492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595-4BE9-4FAC-9D06-51BEDD90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714920" cy="3535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6BF-8BE9-4852-A2B5-40CC335A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D4F-469C-4CEB-97F2-95848FD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79A-465D-48BE-8DF8-42349AB7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6A7-61F5-4357-A3F5-9C1ED7E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D3E-ED5E-46AA-9175-42C5AEAD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E66-3997-4583-8C8B-75697C7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F30A-A0C6-481D-AB71-F89383EB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DF8-EDBA-4B2F-92C8-2D757FD2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065-B324-4DCD-B947-1DC9B07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8A8E-7753-4DC4-B16A-E169BC4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393-17CD-4CC6-A112-9C8A9BD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071-8589-4C64-A855-D1319265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28D1-B537-4012-B08C-BFBB9CFD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D52C-68CC-464E-B997-55C7E11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C3B-451B-4A75-A4A6-F20C70BF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52ED-4D99-4C02-9FCB-8A60801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165D-69BA-480D-B737-132238EF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AFE-5EF9-4B83-AAC8-73A78048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95D-6A88-4926-90D3-8BB3DE1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163-556B-4890-B8B2-D42B43F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DD9-6626-4E1D-A918-20365E4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AFC-58C5-4F08-8CD2-ACDA8DD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4C3-30D5-41D8-9F66-56FAEA1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E23-6755-4BB5-9837-FDA9CB5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9FA-0D42-4A91-B99C-1FE90DF754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0DA5-32F1-418C-AF92-D8F77D0822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day, September 27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angle postula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Classify angles as acute, obtuse or r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Why is it important to be prepared for the AIMS test?  (AT LEAST three sentences?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IMS QUI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, September 28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288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Find the area and perimeter of a square with sides of 4 c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: Page 63, problems 1-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ptember 30, 20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 -7x(3x-10) +3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meter, Circumference,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: Lesson 1.7, problems 9-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view for Ex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9-29T19:53:26Z</dcterms:modified>
  <cp:revision>44</cp:revision>
  <dc:subject/>
  <dc:title>Slide 1</dc:title>
</cp:coreProperties>
</file>